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CE3FA-44B6-49BB-A9D9-AF4709514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5E53C-E80D-48AF-B6E2-17F9E6771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A731C-D2C0-43C1-9F5C-2B0A67927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79900-2B35-4840-9036-FF72CCE7E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98147-E4B0-4F16-9197-69489FD54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B5021-05D6-43DA-8E84-68C504709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254CB-B2E8-459E-A046-982F8523C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A5F25-8E02-4394-B4B8-8B13C3709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DD650-0ADA-44DB-BA62-16863B9CC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A2200-173C-4D7D-B35B-EE82ED419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DC4BD-C5B5-4C1F-8AEC-A4C679233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CBF64-8288-4354-BD4B-7D5135DE0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F3A49-A4E2-4FA1-B547-F422B98A8B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africamap"/>
          <p:cNvPicPr/>
          <p:nvPr/>
        </p:nvPicPr>
        <p:blipFill>
          <a:blip r:embed="rId1"/>
          <a:stretch/>
        </p:blipFill>
        <p:spPr>
          <a:xfrm>
            <a:off x="6134040" y="333360"/>
            <a:ext cx="3009960" cy="23004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887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ustainable Intensification of Cereal-based Farming Systems in the Sudano-Sahelian Zone of West Africa:</a:t>
            </a:r>
            <a:br>
              <a:rPr sz="40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troducing the Draft Concept Note</a:t>
            </a:r>
            <a:br>
              <a:rPr sz="2400"/>
            </a:b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 I. Hoeschle-Zeled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6"/>
          <p:cNvSpPr/>
          <p:nvPr/>
        </p:nvSpPr>
        <p:spPr>
          <a:xfrm>
            <a:off x="0" y="5932440"/>
            <a:ext cx="9144000" cy="1600200"/>
          </a:xfrm>
          <a:prstGeom prst="rect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stainable Intensification of Cereal-based Farming Systems in the Sudano-Sahelian Zone of West Africa: Project Design Workshop, Tamale, Ghana, 9-12 January 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llaborative effort by colleagues from ICRISAT, ILRI, CIAT, ICRAF, AfricaRice, IMWI, IFPRI, AVRCD, and IITA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imary partners, others will be part of the further project design process, project implementation and dissemination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f outputs for impa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ject leader: IITA</a:t>
            </a:r>
            <a:br>
              <a:rPr sz="3200"/>
            </a:b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4"/>
          <p:cNvSpPr/>
          <p:nvPr/>
        </p:nvSpPr>
        <p:spPr>
          <a:xfrm flipV="1">
            <a:off x="4067280" y="98064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9640" y="476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Overall objective: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24000" y="227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mprove livelihoods through sustainably increased productivity of cereal-legume-tree-horticulture-livestock integrated farming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1 project addressing 3 cereal-based farming systems (component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­ mai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sorghum/mill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 rice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Geographic focus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8360" y="920880"/>
            <a:ext cx="8229600" cy="59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northern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Ghana: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Northern, Upper East, Upper West Regions;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ize, rice, sorghum, pearl mill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southern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Mali: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Sikasso Region (similar agro-eco zone, extends into drier areas north); sorghum, pearl millet, mai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overty level, food insecurity risk, gender inequity, potential for productivity improvement with manifold impa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search sites: tbd at this mee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&amp;E: Impact evaluation, scaling up and out assessments,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d by IFPRI, separate fu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ject duration: 5 ye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unding: US$ 3.2m/y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8T13:13:07Z</dcterms:created>
  <dc:creator>zeledon</dc:creator>
  <dc:description/>
  <dc:language>en-US</dc:language>
  <cp:lastModifiedBy>PBallantyne</cp:lastModifiedBy>
  <dcterms:modified xsi:type="dcterms:W3CDTF">2012-01-10T07:22:25Z</dcterms:modified>
  <cp:revision>7</cp:revision>
  <dc:subject/>
  <dc:title>Sustainable Intensification of Cereal-based Farming Systems in the Sudano-Sahelian Zone</dc:title>
</cp:coreProperties>
</file>